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C000-2FE0-4767-8408-3132CFFAF2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8CEC-A36E-4D9A-9FE6-882D2FC90D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25A-A0EF-4B41-BCB2-2DF91ED3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CA8-B974-49B7-9CD9-1E3BA9B0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73C6-52B4-4B25-9EA3-67D5735CC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EFB-E141-4994-84EB-A73F5F059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BE3E-0FB2-4D6C-AE60-29C4AA43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E7C-81BF-4870-B597-2CCBF79D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8F1-E235-4889-92B8-BBBC5F95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2313-2EEA-4A6E-B40D-8881236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31C7-37E7-4EBB-B9BE-C53E475A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5DE1-E94D-4A86-BFAD-04005EC0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B7F2-A25D-44E5-99DD-94F9D685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5795-E071-4F33-AFBD-5DCE765F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ED20-4406-400E-B05B-187DFCB5176F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Stopping_food_waste,_one_picnic_at_a_time" TargetMode="External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133200" y="36360"/>
            <a:ext cx="953928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280" y="549360"/>
            <a:ext cx="8209080" cy="550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Read the article to check your answer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6b9f25"/>
                </a:solidFill>
                <a:uFillTx/>
                <a:latin typeface="Book Antiqua"/>
                <a:hlinkClick r:id="rId1"/>
              </a:rPr>
              <a:t>http://eewiki.newint.org/index.php/Stopping_food_waste,_one_picnic_at_a_tim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 Antiqua"/>
              </a:rPr>
              <a:t>And find out about the movement: </a:t>
            </a:r>
            <a:r>
              <a:rPr b="1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3851280" y="4005360"/>
            <a:ext cx="390672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5-26T19:15:58Z</dcterms:modified>
  <cp:revision>12</cp:revision>
  <dc:subject/>
  <dc:title>How to stop food waste</dc:title>
</cp:coreProperties>
</file>